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767A-EF11-45D8-A962-DA631EA19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2B0B-4F4C-4985-8B7F-33267C71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94D0-CBB6-4754-9039-920E6AB08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2A24-E2FB-4BCD-BDF2-152FE62E3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0B04-E95A-46A2-81F6-7FB60765D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9F90-B965-421F-AB54-4977A918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93B4-6289-41A8-8A2E-65D6182B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5414-3D66-4E4E-BABF-4D7655D1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D866-0765-4342-B6F8-B6772EC8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2AEA-7FF9-4701-AB23-7BAB6D1D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8271-15EC-4CAB-83BB-2A6451A6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02A7-F9C4-4F6A-A4B3-163C838E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E189-C38D-435C-AFA3-9609C4C9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3999-E223-40E1-BA8F-A6C5EA21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BBC1-0E8F-43B9-BAFE-6720213B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BAFA-A4B0-4A6B-80E2-F8FD4F74F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D4C1-AF8A-4477-9D86-3897D23B3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71CED-FD8F-458C-8CB4-1C4BF059A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C1636-7DCF-4B7D-A40A-302C261A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88402-41AE-4FCE-BAA3-AA5515FE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32B45-6D16-4849-B7BA-E2F36575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5D393-0425-4BB9-BABC-CB652955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6607-0E0F-4F1B-8D3F-633D5E99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9B3BF-4E29-4C82-8F27-27BECC34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CFBE7-4A60-46D0-8FB7-7BDF80F5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C0CC4-6608-45BF-837A-20A36E95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1A360-C739-41DB-8D68-092E0F7C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2C003-0982-4F57-8497-D1DACD74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2AE20-2069-402C-885E-7E76095D4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4F0EB-E832-4B3F-B8BC-6A1F3D381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6B6F9-731E-4B4A-9392-E1E0D4AC4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DCFB2-EBA4-4B16-A6E4-4C7E7C55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30664-F2E9-450C-BB08-3DE3AF8E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6914-EC33-440D-B352-0837AC71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B22FD-0984-4368-A459-78CA2963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9E970-A699-466A-8533-7464A007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382EC-712F-4D6D-95C9-FA6F43D9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6CA46-EAD3-4755-8393-ACC56DF0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99417-7114-406C-8363-5101BA7C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D7FBE-5ACA-4F79-9374-FCCE69E0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B4817-540C-4795-84E6-B1750CD8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FD2C3-CB9E-45CA-AB20-F0778623C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83D46-5EDB-4C3A-9D05-4B16C1C1F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BFF82-A97A-4BE4-951B-2AD6F73E6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BD91-4C62-4B5A-A7B4-AB35F17B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6A3AB-BD0B-4FEE-B1D4-6753AFC6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74612-671F-44BF-A74B-E9B2818B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69EA9-CB6D-4B2C-B69E-022E3230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BE314-F225-4FE1-8B07-8146DEE9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46147-8E1A-48B6-8DD0-AE6B6C65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17BA3-DB10-49B4-B48B-EB4BF5D1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F7DDD-737E-4579-BE47-95E52258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CA0E5-23BF-44FD-A41A-919CC96F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FB294-B0D5-4B6C-B9CC-7CA91D90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731EC-C017-46D2-8F35-3054678FC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804C-9C50-4AE5-AC11-DD221AFB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FBE38-186A-49F8-80B3-E823FAF7D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74C4D-77A4-464F-A8DE-150CDF04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FD8CC-7120-4EBE-A996-59BCC944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1FD49-8170-4C4B-B5B3-2F5E6144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86B83-149D-42D4-A1F4-D703F097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73CE8-1DA2-41F4-862E-5CC73CFB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16C65-A893-467D-B11D-B2A296CB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26F8C-A690-48FD-A99F-724B33B3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99FC0-1648-4132-A4B5-61B51401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BD823-1749-443A-854A-3B9511CC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8BCA-198F-44EB-B016-B706A221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019C0-9B73-4DDA-BF10-9CC3A068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76591-7983-41DC-9BE8-C26D09C16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CBCD5-EACE-4C05-A473-8527BD10A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4B144-C18B-4353-9D3A-2CA3B0790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7E0EB-BABD-48CB-A0BA-A8657049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EAF8A-84DC-4A2B-8F8C-80B31054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225B9-5026-4845-9963-20197269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253DD-35F8-48B6-B445-FA9D62B9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7F68C-5E8B-4B1F-B4F7-DD14DB09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9EBA6-5740-4808-A34D-EB2D9869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FB40-B665-4041-9819-19C16547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D56B4-6A90-434E-91D7-97D04DDD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33E5E-C489-4D35-B49D-E0DD8AEB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2453B-FAC5-487F-9F9A-7CA3FB95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7165B-B501-43E7-9FDB-03EC59201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B3460-D399-4471-9A0C-7378A88BC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FA34B-9C3F-4E5B-AD8B-1EE32883B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CBA08-74F1-4B71-97B1-72DF5655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D9C92-A73A-40EF-B422-C8F11210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4B044-DC2A-48A1-8C11-3C3CF851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953DA-181B-45AB-999B-50518E5C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17C1-789E-4B87-B951-8F7AF01F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C4C16-9A0D-4530-BDF9-C272137E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98C69-3907-4220-8E0A-22E3227B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0B2AB-678A-461F-AFFE-D0AAE4F2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45DF2-9D63-4667-B911-A2C41FB6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092AA-52F3-406A-B0C4-A2D0577F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C004B-8663-473F-BB83-06B86C874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9DCBC-98E9-435F-AE6D-BE2AA586D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773E-FA45-4985-9A7A-B00A4657D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9EB4-B347-4544-94C0-4BC69870C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B947-9071-402B-94E3-CC936DEC4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E9A2-DB27-44C1-9EE3-B65F58CCF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2EBD-20AA-4A41-888E-F143BEFB0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B85D-D6E2-4FC7-B5D1-BDA4442F0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58FE-9CD9-43BE-9B42-147F6D8EF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F0DB-ECA4-4392-B574-6DB8107BC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468360" y="6237360"/>
            <a:ext cx="1187280" cy="39060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7740720" y="6021360"/>
            <a:ext cx="934920" cy="6080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4360" y="955800"/>
            <a:ext cx="777528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ыт Проекта ХОУП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 улучшению ТБ программы в пенитенциарных учреждениях Карагандинской обла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ман Токтабая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 ХОУ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3-26 ма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иев, Укра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АРТН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468360" y="6237360"/>
            <a:ext cx="1187280" cy="3906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7740720" y="6021360"/>
            <a:ext cx="934920" cy="6080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ИНИСТЕРСТВО ЮСТИ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ИНИСТЕРСТВО ВНУТРЕННИХ Д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ИНИСТЕРСТВО ЗДРАВООХРАН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ЦИОНАЛЬНЫЙ ЦЕНТР ПРОБЛЕМ ТУБЕРКУЛЕ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ГЕНТСТВО ПО МЕЖДУНАРОДНОМУ РАЗВИТИЮ США / US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ЖДУНАРОДНЫЕ И НЕПРАВИТЕЛЬСТВЕННЫЕ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M&amp;E Workshop Kie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Ь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468360" y="6237360"/>
            <a:ext cx="1187280" cy="39060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7740720" y="6021360"/>
            <a:ext cx="934920" cy="60804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здание  устойчив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межведомственно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одели  противотуберкулезной программы в пенитенциарных учреждения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M&amp;E Workshop Kie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ДАЧИ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468360" y="6237360"/>
            <a:ext cx="1187280" cy="39060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7740720" y="6021360"/>
            <a:ext cx="934920" cy="60804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илени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руктур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го  и человеческого потенциала в систе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стижение установленных стандартов, обеспечивающих клиническую и эпидемиологическую эффективность 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отивотуберкулезных мероприяти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M&amp;E Workshop Kie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ЭТАПЫ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ЯТЕЛЬНОСТИ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468360" y="6237360"/>
            <a:ext cx="1187280" cy="39060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7740720" y="6021360"/>
            <a:ext cx="934920" cy="60804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729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анирование программных мероприя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ализация запланированных мероприя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ниторинг выполнения программных мероприятий и оценка достижения поставленных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M&amp;E Workshop Kie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468360" y="6237360"/>
            <a:ext cx="1187280" cy="39060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7740720" y="6021360"/>
            <a:ext cx="934920" cy="60804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ализ текущей ситуации (оценка проблем и потребностей программ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тановление цели и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тановление индика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пределение ключевых фун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ение ресурсов для достижения установленных целей и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M&amp;E Workshop Kie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468360" y="6237360"/>
            <a:ext cx="1187280" cy="3906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7740720" y="6021360"/>
            <a:ext cx="934920" cy="60804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71360" y="1557360"/>
            <a:ext cx="8820360" cy="4321080"/>
            <a:chOff x="171360" y="1557360"/>
            <a:chExt cx="8820360" cy="4321080"/>
          </a:xfrm>
        </p:grpSpPr>
        <p:sp>
          <p:nvSpPr>
            <p:cNvPr id="394" name=""/>
            <p:cNvSpPr/>
            <p:nvPr/>
          </p:nvSpPr>
          <p:spPr>
            <a:xfrm>
              <a:off x="8472600" y="4845600"/>
              <a:ext cx="519120" cy="103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472600" y="3713760"/>
              <a:ext cx="519120" cy="11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805880" y="4845600"/>
              <a:ext cx="666720" cy="103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805880" y="3713760"/>
              <a:ext cx="666720" cy="11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11880" y="4845600"/>
              <a:ext cx="594000" cy="103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211880" y="3713760"/>
              <a:ext cx="594000" cy="11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18240" y="4845600"/>
              <a:ext cx="593640" cy="103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18240" y="3713760"/>
              <a:ext cx="593640" cy="11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472600" y="2916720"/>
              <a:ext cx="519120" cy="79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805880" y="2916720"/>
              <a:ext cx="666720" cy="79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211880" y="2916720"/>
              <a:ext cx="594000" cy="79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618240" y="2916720"/>
              <a:ext cx="593640" cy="79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051600" y="2916720"/>
              <a:ext cx="566640" cy="79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051600" y="3713760"/>
              <a:ext cx="566640" cy="11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579840" y="3713760"/>
              <a:ext cx="2471760" cy="11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71360" y="3713760"/>
              <a:ext cx="3408480" cy="11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051600" y="2086200"/>
              <a:ext cx="2940120" cy="83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ременные рам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579840" y="2086200"/>
              <a:ext cx="2471760" cy="16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Ответствен 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71360" y="2086200"/>
              <a:ext cx="3408480" cy="16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Задачи /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Мероприят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051600" y="4845600"/>
              <a:ext cx="566640" cy="103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579840" y="4845600"/>
              <a:ext cx="2471760" cy="103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71360" y="4845600"/>
              <a:ext cx="3408480" cy="103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71360" y="1557360"/>
              <a:ext cx="882036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Цель: Повысить качество противотуберкулезных  мероприят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71360" y="1557360"/>
              <a:ext cx="882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71360" y="4845600"/>
              <a:ext cx="882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71360" y="5878440"/>
              <a:ext cx="882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71360" y="1557360"/>
              <a:ext cx="0" cy="4321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991720" y="1557360"/>
              <a:ext cx="0" cy="4321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71360" y="2086200"/>
              <a:ext cx="882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579840" y="2086200"/>
              <a:ext cx="0" cy="379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051600" y="2086200"/>
              <a:ext cx="0" cy="379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71360" y="3713760"/>
              <a:ext cx="882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51600" y="2916720"/>
              <a:ext cx="294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18240" y="2916720"/>
              <a:ext cx="0" cy="296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211880" y="2916720"/>
              <a:ext cx="0" cy="296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805880" y="2916720"/>
              <a:ext cx="0" cy="296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472600" y="2916720"/>
              <a:ext cx="0" cy="296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M&amp;E Workshop Kie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ЗУЛЬТАТЫ ИСХОДНОЙ ОЦЕ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468360" y="6237360"/>
            <a:ext cx="1187280" cy="39060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7740720" y="6021360"/>
            <a:ext cx="934920" cy="60804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АТЕРИАЛЬНО ТЕХНИЧЕСКАЯ БАЗ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ТРЕБНОСТЬ В СОВРЕМЕННОМ ОБОРУДОВАН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ЧЕЛОВЕЧЕСКИЕ  РЕСУР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ОБХОДИМОСТЬ ПОВЫШЕНИЯ УРОВНЯ ЗНАНИЙ И НАВЫКОВ  МЕДИЦИНСКОГО И НЕМЕДИЦИНСКОГО ПЕРСО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ОБХОДИМОСТЬ УЧАСТИЯ РЕЖИМНОГО И ВОСПИТАТЕЛЬНОГО ПЕРСОНАЛА В ЛЕЧЕБНОЙ РАБО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НФОРМАЦИОННЫЙ МЕНЕДЖМЕНТ ТБ ПРОГРАМ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ЛИЧИЕ ДВОЙНОЙ РЕГИСТРАЦИИ СЛУЧАЕВ ВНУТРИ СИСТЕ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ДОСТАТОЧНЫ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УРОВЕНЬ ИНТЕГРАЦИ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УЖ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ИСТЕМА МОНИТОРИНГА И ОЦЕН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ТРЕБНОСТЬ В СТАНДАРТИЗАЦИИ ПРОТИВОТУБЕРКУЛЕЗНЫХ ПРОЦЕДУР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ОБХОДИМОСТЬ УЛУЧШЕНИЯ СИСТЕМЫ МОНИТОРИН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M&amp;E Workshop Kie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468360" y="6237360"/>
            <a:ext cx="1187280" cy="39060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7740720" y="6021360"/>
            <a:ext cx="934920" cy="60804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ЗУЛЬТАТЫ ИСХОДНОЙ ОЦЕ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546120" y="1504800"/>
          <a:ext cx="8153280" cy="438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6120" y="1504800"/>
                    <a:ext cx="815328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M&amp;E Workshop Kie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роприятия по материально техническому обеспеч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468360" y="6237360"/>
            <a:ext cx="1187280" cy="39060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7740720" y="6021360"/>
            <a:ext cx="934920" cy="60804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рудование бактериологической лабора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ическое обеспечение информационного отдела противотуберкулезной службы КУИС области и Медицинского управления КУИС МЮ Р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ение  мониторинговых визитов координаторов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M&amp;E Workshop Kie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роприятия по усилению человеческого потенц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468360" y="6237360"/>
            <a:ext cx="1187280" cy="39060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7740720" y="6021360"/>
            <a:ext cx="934920" cy="60804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зовый тренинг для персонала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200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32 специали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енинги на рабочем мест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2002-2003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50 специали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енинг «Управление качеством в программе контроля над ТБ в тюрьмах», 2003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40 специали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енинг для тренеров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5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M&amp;E Workshop Kie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спублика Казахст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468360" y="6237360"/>
            <a:ext cx="1187280" cy="39060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7740720" y="6021360"/>
            <a:ext cx="934920" cy="60804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468360" y="1413000"/>
            <a:ext cx="820728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M&amp;E Workshop Kie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роприятия по усилению человеческого потенц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468360" y="6237360"/>
            <a:ext cx="1187280" cy="39060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7740720" y="6021360"/>
            <a:ext cx="934920" cy="60804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зовый тренинг для персонала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200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32 специал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нинги на рабочем мес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2002-2003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50 специалис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нинг «Управление качеством в программе контроля над ТБ в тюрьмах», 2003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40 специалис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M&amp;E Workshop Kie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468360" y="6237360"/>
            <a:ext cx="1187280" cy="39060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7740720" y="6021360"/>
            <a:ext cx="934920" cy="60804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ВИТИЕ СИСТЕМЫ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ОНИТОРИН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зайн системы</a:t>
            </a:r>
            <a:r>
              <a:rPr b="1" lang="ru-RU" sz="28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тановить аспе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формировать коман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брать индикаторы и инстр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ить метод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ить структуру проведения – сбор данных, анализ и их исполь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работать систему контроля над выполнением рекоменд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работать план по распространению результа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M&amp;E Workshop Kie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468360" y="6237360"/>
            <a:ext cx="1187280" cy="39060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7740720" y="6021360"/>
            <a:ext cx="934920" cy="60804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ВИТИЕ СИСТЕМЫ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ОНИТОРИН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спекты мониторин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явление и диагностика Т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изация лабораторной служ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чение случаев туберкулё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карственное обеспе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енин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нитарно – просветитель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формационный компон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роль (супервизия)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M&amp;E Workshop Kie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468360" y="6237360"/>
            <a:ext cx="1187280" cy="39060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7740720" y="6021360"/>
            <a:ext cx="934920" cy="60804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ВИТИЕ СИСТЕМЫ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ОНИТОРИН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Команда мониторин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Лабораторный специалис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енеджер по информатик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пециалист по лекарственному обеспечени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пециалист по клиник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M&amp;E Workshop Kie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468360" y="6237360"/>
            <a:ext cx="1187280" cy="39060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7740720" y="6021360"/>
            <a:ext cx="934920" cy="60804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ВИТИЕ СИСТЕМЫ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ОНИТОРИН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836640"/>
            <a:ext cx="821844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струмент монитор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395280" y="1424160"/>
          <a:ext cx="8569440" cy="3949560"/>
        </p:xfrm>
        <a:graphic>
          <a:graphicData uri="http://schemas.openxmlformats.org/drawingml/2006/table">
            <a:tbl>
              <a:tblPr/>
              <a:tblGrid>
                <a:gridCol w="468360"/>
                <a:gridCol w="3887640"/>
                <a:gridCol w="1206720"/>
                <a:gridCol w="614160"/>
                <a:gridCol w="736560"/>
                <a:gridCol w="1656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катор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Структур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 баллов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Процесс                                                      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етс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ндар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Результа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ется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ндар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M&amp;E Workshop Kie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468360" y="6237360"/>
            <a:ext cx="1187280" cy="3906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7740720" y="6021360"/>
            <a:ext cx="934920" cy="60804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ВИТИЕ СИСТЕМЫ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ОНИТОРИН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V.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етоды мониторин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аблюд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бзор и изучение документ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нтервью с медицинским работника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нтервью с пациента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M&amp;E Workshop Kie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ВИТИЕ СИСТЕМЫ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ОНИТОРИН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468360" y="6237360"/>
            <a:ext cx="1187280" cy="39060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7740720" y="6021360"/>
            <a:ext cx="934920" cy="60804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а проведения мониторин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ые фазы методологии по решению проб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08000" y="3959280"/>
            <a:ext cx="18288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ыя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949400" y="4365720"/>
            <a:ext cx="53496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514600" y="3959280"/>
            <a:ext cx="18288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нал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4365720"/>
            <a:ext cx="5335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876920" y="3959280"/>
            <a:ext cx="18288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е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705720" y="4365720"/>
            <a:ext cx="457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162920" y="3959280"/>
            <a:ext cx="18288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недр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онт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Улуч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12720" y="3355920"/>
            <a:ext cx="719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132000" y="3357720"/>
            <a:ext cx="719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365800" y="3357720"/>
            <a:ext cx="718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Р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669080" y="3357720"/>
            <a:ext cx="719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920" y="4941720"/>
            <a:ext cx="129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Шаг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770200" y="4941720"/>
            <a:ext cx="12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Ша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148360" y="4941720"/>
            <a:ext cx="129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Ша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451640" y="4941720"/>
            <a:ext cx="12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Ша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M&amp;E Workshop Kie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ВИТИЕ СИСТЕМЫ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ОНИТОРИН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468360" y="6237360"/>
            <a:ext cx="1187280" cy="39060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7740720" y="6021360"/>
            <a:ext cx="934920" cy="60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5" name=""/>
          <p:cNvGraphicFramePr/>
          <p:nvPr/>
        </p:nvGraphicFramePr>
        <p:xfrm>
          <a:off x="395280" y="2205000"/>
          <a:ext cx="8229600" cy="3965760"/>
        </p:xfrm>
        <a:graphic>
          <a:graphicData uri="http://schemas.openxmlformats.org/drawingml/2006/table">
            <a:tbl>
              <a:tblPr/>
              <a:tblGrid>
                <a:gridCol w="2643120"/>
                <a:gridCol w="2230560"/>
                <a:gridCol w="1984320"/>
                <a:gridCol w="1371600"/>
              </a:tblGrid>
              <a:tr h="12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и / Мероприя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ственно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ц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 начала и завершения актив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Достичь 100% выполнения протокола ДОТ медицинскими сестр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альник  отде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мая 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июня 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 Провести обучение протоколу ДОТ 20 медицинских сест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тизиа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мая 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мая 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 Провести супервизию выполнения протокола ДОТ в отделени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тизиа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июня 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июня 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6" name=""/>
          <p:cNvSpPr/>
          <p:nvPr/>
        </p:nvSpPr>
        <p:spPr>
          <a:xfrm>
            <a:off x="539640" y="105264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а контроля над выполне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омендаций по решению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лан мероприятий по результатам монитор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M&amp;E Workshop Kie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ВИТИЕ СИСТЕМЫ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ОНИТОРИН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468360" y="6237360"/>
            <a:ext cx="1187280" cy="39060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7740720" y="6021360"/>
            <a:ext cx="934920" cy="60804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I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н распространения результ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оздать систему хран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Распространять информа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внутри учреждения (индивидуально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для групп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сех заинтересованных лиц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за рамки учреждения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дово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чет,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онференц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M&amp;E Workshop Kie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ФОРМАЦИОННЫЙ МЕНЕДЖМЕНТ ТБ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468360" y="6237360"/>
            <a:ext cx="1187280" cy="39060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2"/>
          <a:stretch/>
        </p:blipFill>
        <p:spPr>
          <a:xfrm>
            <a:off x="7740720" y="6021360"/>
            <a:ext cx="934920" cy="60804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РАММА ПОДГОТОВКИ ОСУЖДЕННОГО ПЕРЕД ОСВОБОЖДЕНИЕ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токол передачи информации о пациен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токол передачи информации о результатах ле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M&amp;E Workshop Kie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вень зарегистрированных случаев в Республике Казахст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468360" y="6237360"/>
            <a:ext cx="1187280" cy="39060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7740720" y="6021360"/>
            <a:ext cx="934920" cy="60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0" name=""/>
          <p:cNvGraphicFramePr/>
          <p:nvPr/>
        </p:nvGraphicFramePr>
        <p:xfrm>
          <a:off x="468360" y="1484280"/>
          <a:ext cx="8280360" cy="464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1484280"/>
                    <a:ext cx="828036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M&amp;E Workshop Kie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СТИГНУТ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468360" y="6237360"/>
            <a:ext cx="1187280" cy="39060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>
            <a:off x="7740720" y="6021360"/>
            <a:ext cx="934920" cy="60804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начены Областные координаторы по лабораторной службе, по лечению, по лекарственному обеспечению, по информационному менеджменту, кураторы коло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M&amp;E Workshop Kie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СТИГНУТЫЕ РЕЗУЛЬТ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468360" y="6237360"/>
            <a:ext cx="1187280" cy="39060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7740720" y="6021360"/>
            <a:ext cx="934920" cy="60804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работаны  и внедрены  индикаторы и инструменты оценки выполнения работы  медицинским персонал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ведены кураторские визиты периферических колоний с обучением на рабочем месте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формированы навыки у медицинского персонала по сбору, анализу данных и решению выявленных пробл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M&amp;E Workshop Kie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СТИГНУТ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468360" y="6237360"/>
            <a:ext cx="1187280" cy="39060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7740720" y="6021360"/>
            <a:ext cx="934920" cy="60804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ЗДАН ЦЕНТР ИНТЕГРИРОВАННОГО ОБУЧЕНИЯ ДЛЯ РАСПРОСТРАНЕНИЯ ОПЫТА ПО ВСЕЙ СТ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УЕМЫЕ ЛАБОРАТОРНЫЕ ИССЛЕДОВАНИЯ И МЕДИЦИНСКИЕ ПРОЦЕДУРЫ СТАНДАРТИЗИРОВА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ОВЕРШЕНСТВОВАНА ИНФОРМАЦИОННА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АЖЕНА СИСТЕМА СУПЕРВИЗИИ И МОНИТОРИНГ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ВЫСИЛОСЬ КОЛИЧЕСТВО ПАЦИЕНТОВ ПОСЛЕ ОСВОБОЖДЕНИЯ, ПЕРЕРЕГИСТРИРОВАВШИХСЯ В ГРАЖДАНСКОМ СЕКТОРЕ И ПРОДОЛЖИВШИХ Л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M&amp;E Workshop Kie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468360" y="6237360"/>
            <a:ext cx="1187280" cy="39060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7740720" y="6021360"/>
            <a:ext cx="934920" cy="60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63680" y="1413000"/>
          <a:ext cx="8215200" cy="471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3680" y="1413000"/>
                    <a:ext cx="8215200" cy="47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M&amp;E Workshop Kie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зульта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468360" y="6237360"/>
            <a:ext cx="1187280" cy="39060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7740720" y="6021360"/>
            <a:ext cx="934920" cy="60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5" name=""/>
          <p:cNvGraphicFramePr/>
          <p:nvPr/>
        </p:nvGraphicFramePr>
        <p:xfrm>
          <a:off x="468360" y="1052640"/>
          <a:ext cx="8280360" cy="518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1052640"/>
                    <a:ext cx="828036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M&amp;E Workshop Kie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468360" y="6237360"/>
            <a:ext cx="1187280" cy="3906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7740720" y="6021360"/>
            <a:ext cx="934920" cy="60804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362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уктурные 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материальные накопления сами по себе не приводят к достижению положительных результатов работы, а являются одним из необходимых усло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повышения качества выполнения противотуберкулезных мероприятий необходимы регулярная супервизия с обучением на рабочем месте, мониторинг и 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людение режима исправительного  учреждения оказывает положительное влияние на выполнение лечебного реж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M&amp;E Workshop Kie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468360" y="6237360"/>
            <a:ext cx="1187280" cy="39060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7740720" y="6021360"/>
            <a:ext cx="934920" cy="60804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3"/>
          <a:stretch/>
        </p:blipFill>
        <p:spPr>
          <a:xfrm>
            <a:off x="539640" y="1484280"/>
            <a:ext cx="8064720" cy="446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M&amp;E Workshop Kie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вень смертности в Республике Казахст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468360" y="6237360"/>
            <a:ext cx="1187280" cy="3906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7740720" y="6021360"/>
            <a:ext cx="934920" cy="60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5" name=""/>
          <p:cNvGraphicFramePr/>
          <p:nvPr/>
        </p:nvGraphicFramePr>
        <p:xfrm>
          <a:off x="395280" y="1600200"/>
          <a:ext cx="835200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1600200"/>
                    <a:ext cx="83520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M&amp;E Workshop Kie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вень излечения новых случаев МТ+ в Республике Казахст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468360" y="6237360"/>
            <a:ext cx="1187280" cy="3906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7740720" y="6021360"/>
            <a:ext cx="934920" cy="60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0" name=""/>
          <p:cNvGraphicFramePr/>
          <p:nvPr/>
        </p:nvGraphicFramePr>
        <p:xfrm>
          <a:off x="463680" y="1600200"/>
          <a:ext cx="821520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3680" y="160020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M&amp;E Workshop Kie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пидемиологические данные по Карагандинской области в И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468360" y="6237360"/>
            <a:ext cx="1187280" cy="39060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7740720" y="6021360"/>
            <a:ext cx="934920" cy="60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5" name=""/>
          <p:cNvGraphicFramePr/>
          <p:nvPr/>
        </p:nvGraphicFramePr>
        <p:xfrm>
          <a:off x="468360" y="1341360"/>
          <a:ext cx="8207280" cy="468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1341360"/>
                    <a:ext cx="820728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M&amp;E Workshop Kie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ая существует проблем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468360" y="6237360"/>
            <a:ext cx="1187280" cy="3906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7740720" y="6021360"/>
            <a:ext cx="934920" cy="6080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начало проекта Казахстан занимал третье место в мире по количеству осужденных на 100 тысяч насе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коло 80 процентов осужденных в возрасте от 25 до 45 лет – наиболее трудоспособная возрастная групп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коло 50 процентов осужденных составляют социально дезадаптированные лица, в том числе страдающие алкоголизмом и наркомани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M&amp;E Workshop Kie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ая существует проблем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овень зарегистрированных новых случаев в тюрьмах в 10-12 раз выш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овень смертности в тюрьмах в 4-5 раз выш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тюремной системе низкий уровень излечения среди новых случаев МТ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468360" y="6237360"/>
            <a:ext cx="1187280" cy="39060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7740720" y="6021360"/>
            <a:ext cx="934920" cy="6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M&amp;E Workshop Kie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764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УКТУРА ПЕНИТЕНЦИАРНОЙ СИСТЕМЫ КАРАГАНДИН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ГО 12 И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СИЗ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 колоний, из них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2 противотуберкулезные больн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7 периферических учрежд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1 колония пос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468360" y="6237360"/>
            <a:ext cx="1187280" cy="39060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7740720" y="6021360"/>
            <a:ext cx="934920" cy="6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M&amp;E Workshop Kiev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03:35:52Z</dcterms:created>
  <dc:creator>Veen</dc:creator>
  <dc:description/>
  <dc:language>en-US</dc:language>
  <cp:lastModifiedBy> </cp:lastModifiedBy>
  <dcterms:modified xsi:type="dcterms:W3CDTF">2006-05-25T11:32:12Z</dcterms:modified>
  <cp:revision>40</cp:revision>
  <dc:subject/>
  <dc:title>Central Asia</dc:title>
</cp:coreProperties>
</file>